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gif" ContentType="image/gif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326-7473-4B69-8C75-F71C5DD6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0E3-7BCF-48D9-859E-DD4B77F8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BB2-2977-426A-A214-975920CF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942-468E-4A1C-9595-898EBF86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23C2-A89F-477B-90E6-2DD83A41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B39F-2F56-451D-8CD5-8C77134F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74ED-77F3-4182-9432-F96FC842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4740-0428-48D7-AC6F-43AF709D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06F0-1095-4E4D-A4EE-31893ED6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6E94-829D-4605-9AE9-507E79F6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AD3C-3317-4288-8226-670357E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276-398E-4C93-A76E-ED96550B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3648-643A-497E-914C-A2055F2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64C7-65AE-4915-A6D8-C3BC537D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EDBC-10CD-43DB-BDF8-586275D7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8F51-0D41-4E55-B494-43811D62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E894-AAA1-4B45-9FFD-097E9918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4430-B895-484D-9F39-D1A59C85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3768-C254-4B12-A007-A53E24F2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EB81-B896-48EF-9BB3-2516DFF7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383A-3C79-476D-BE5A-3D5136A1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D493-0700-4119-9E0C-BA59DEA4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AC0-DCC2-4214-8001-3F4DC002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C7AC-E81B-4477-ACEF-D8E08FA4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18AC-A833-458F-8C1D-6DCB101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DB00-6B63-445B-AA52-623C51CB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0128-7F87-4402-A03A-18F9685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4F8E-43CB-4D45-A2BD-257BE9A9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5EC6-9EB1-42D9-8B49-C3A96905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0AAE-F792-4000-8D6F-292950A0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2243-6347-4C29-AD56-42B712C0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B462-240B-4B8F-8C58-80C0CBBE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19C6-B39D-46D4-A217-D8673FAB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394-596F-4816-A25C-A1E334FE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E63F-B29D-4D77-8A9B-1B43CDC7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FC12-56F9-4BCD-9CB0-8BA13997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2308-AE30-4F25-8FF8-8AE34D10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4F495-573F-4158-A5AC-F4F5009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A975-C64B-4A86-8167-AAFB09C3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F8799-AE7F-407D-8FEE-A19FD83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5AB5-90D4-4025-9D9F-B360550C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1CEC-1C85-481F-8D23-3D8378B1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C83EE-0B31-4154-BF38-FEFF1B77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409B-99FD-4A74-B2EA-7CB647BE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331-F185-4A61-B8FC-13D71135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D00ED-C3B0-41CA-BC8F-9C887BDC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E62B2-6918-4852-995D-6DDC551B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40D3-0DBF-405F-803B-C577213B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CDD6E-EA08-4691-9E05-58AD7F5E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73DED-7B12-448F-A244-7C32D380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11CA-176B-4CE6-9329-5C15269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2B893-1417-4CAE-9A84-4E89B70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71B15-C8CF-4D9A-A50A-C50D393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799C5-9863-467D-8803-E6E81A56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B983-ECCC-4384-94AB-09E6576D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073-B168-48D8-92B8-B0DFA7F5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1952-16E1-4F1B-8E2C-DE36845F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98334-23B1-42BB-80EB-38788F94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675F9-2A58-4CE1-8AA3-1C5AAFFB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4FAEE-8328-4C7F-B859-FCAFA1EC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389F7-2E68-44DE-878C-92680D9E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0532-45A0-409D-A2E3-16F9FB2C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A29E9-63B0-4DCE-8AD3-C850C8E1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414E0-2010-4B3C-AA8B-038C3B1C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7D9FA-8E73-479B-9551-FFA804A4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7049E-8007-4DBF-BFE0-DA8B9D5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04B-7F61-4C4B-BE84-05BD582E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5B6D0-3F7D-4937-872F-BAFB0193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4572B-ED01-4701-8EAA-1A0A8D32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4BB2-E390-4D16-87D5-CBB43492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45C05-AD4F-4026-B241-F86726FF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E3D36-1EC2-4209-AB79-531D7692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7EBFC-10A3-481C-BC5C-B4C9FFD6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C52EE-E814-4DC1-A0B5-C3BE6ECB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87F96-A9F7-4B78-803D-FE436232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D0467-1C8E-4D66-BA27-37855582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50081-D023-471A-96F2-68B0C1B4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BE5-9C15-4C4E-9135-0FF3FFB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D852E-1BE6-4003-8B6F-D667D7D3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D8635-A344-4F2F-B3CD-5D0911F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CE1F7-AFCE-49CE-865D-769BE2DF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BB0EC-07BF-4529-BCBF-BEE2F6B3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DC671-BB8E-4E7E-8116-92A5CEC2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C7C-8D1C-454E-8CE7-9A85EB70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BCF6-8A5C-4072-9866-B02FFF9B82C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E723-27A4-434E-B367-BE8838E86F5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2D7-3BD3-420B-9124-E0AB1D71F7D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FE7-AE98-49EB-BF4C-2FA355F9C36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73CF-2FE8-4199-B477-F1C7F8E6FDA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F589-A48D-4C79-853C-5BE22D9B2BA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EBBC-F9F1-4592-BA8F-225656CDA66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ward.co.uk/wp-content/uploads/2009/07/happy-face.pn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raphicsarcade.com/comments/good_luck/good_luck_comment_graphic_04.gif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spmg.photobucket.com/albums/v127/morganmay/good_morning_SUN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378000" y="1646280"/>
            <a:ext cx="801036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Corbel"/>
              </a:rPr>
              <a:t>Capítulo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3526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are you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rbel"/>
              </a:rPr>
              <a:t>¿Cómo estás?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63360" y="-136440"/>
            <a:ext cx="16671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63360" y="-136440"/>
            <a:ext cx="16671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Picture 7" descr="high school graduation.jpg"/>
          <p:cNvPicPr/>
          <p:nvPr/>
        </p:nvPicPr>
        <p:blipFill>
          <a:blip r:embed="rId1"/>
          <a:stretch/>
        </p:blipFill>
        <p:spPr>
          <a:xfrm>
            <a:off x="3200400" y="24004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are you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560" y="1371240"/>
            <a:ext cx="830556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ffffff"/>
                </a:solidFill>
                <a:latin typeface="Corbel"/>
              </a:rPr>
              <a:t>¿Qué tal?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8" name="Picture 2" descr="http://media.highschoolplaybook.com/networks/Centralflorida/images/blog_album_photos/146100/Finneytown%20High%20School%20Hallway%20Scene%20(Large)%20(Small)_original120200.jpg"/>
          <p:cNvPicPr/>
          <p:nvPr/>
        </p:nvPicPr>
        <p:blipFill>
          <a:blip r:embed="rId1"/>
          <a:stretch/>
        </p:blipFill>
        <p:spPr>
          <a:xfrm>
            <a:off x="281952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www.andrew.cmu.edu/user/heeyeons/smile.jpg"/>
          <p:cNvPicPr/>
          <p:nvPr/>
        </p:nvPicPr>
        <p:blipFill>
          <a:blip r:embed="rId2"/>
          <a:stretch/>
        </p:blipFill>
        <p:spPr>
          <a:xfrm>
            <a:off x="0" y="23623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http://edubuzz.org/blogs/stgabriels/files/2008/12/sad-face.jpg"/>
          <p:cNvPicPr/>
          <p:nvPr/>
        </p:nvPicPr>
        <p:blipFill>
          <a:blip r:embed="rId3"/>
          <a:stretch/>
        </p:blipFill>
        <p:spPr>
          <a:xfrm>
            <a:off x="6286680" y="32767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413" name="Oval Callout 6"/>
          <p:cNvSpPr/>
          <p:nvPr/>
        </p:nvSpPr>
        <p:spPr>
          <a:xfrm>
            <a:off x="2438280" y="1143000"/>
            <a:ext cx="2286000" cy="243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¿Cómo estás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Flowchart: Sequential Access Storage 7"/>
          <p:cNvSpPr/>
          <p:nvPr/>
        </p:nvSpPr>
        <p:spPr>
          <a:xfrm>
            <a:off x="3733920" y="2666880"/>
            <a:ext cx="2743200" cy="2362320"/>
          </a:xfrm>
          <a:prstGeom prst="flowChartMagneticTape">
            <a:avLst/>
          </a:prstGeom>
          <a:solidFill>
            <a:srgbClr val="51daff"/>
          </a:solidFill>
          <a:ln w="19080">
            <a:solidFill>
              <a:srgbClr val="8b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Mal, ¿y tú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Oval Callout 8"/>
          <p:cNvSpPr/>
          <p:nvPr/>
        </p:nvSpPr>
        <p:spPr>
          <a:xfrm>
            <a:off x="2057400" y="4114800"/>
            <a:ext cx="2362320" cy="2286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Bien, gracias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www.andrew.cmu.edu/user/heeyeons/smile.jpg"/>
          <p:cNvPicPr/>
          <p:nvPr/>
        </p:nvPicPr>
        <p:blipFill>
          <a:blip r:embed="rId1"/>
          <a:stretch/>
        </p:blipFill>
        <p:spPr>
          <a:xfrm>
            <a:off x="0" y="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ien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sí Así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040" y="6095880"/>
            <a:ext cx="205740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9" name="Picture 2" descr="http://www.clker.com/cliparts/9/8/0/0/119498645176821905smiley003.svg.med.png"/>
          <p:cNvPicPr/>
          <p:nvPr/>
        </p:nvPicPr>
        <p:blipFill>
          <a:blip r:embed="rId2"/>
          <a:stretch/>
        </p:blipFill>
        <p:spPr>
          <a:xfrm>
            <a:off x="3505320" y="1447920"/>
            <a:ext cx="2828880" cy="2838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http://edubuzz.org/blogs/stgabriels/files/2008/12/sad-face.jpg"/>
          <p:cNvPicPr/>
          <p:nvPr/>
        </p:nvPicPr>
        <p:blipFill>
          <a:blip r:embed="rId3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O YOU SPEAK SPANISH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www.andrew.cmu.edu/user/heeyeons/smile.jpg"/>
          <p:cNvPicPr/>
          <p:nvPr/>
        </p:nvPicPr>
        <p:blipFill>
          <a:blip r:embed="rId2"/>
          <a:stretch/>
        </p:blipFill>
        <p:spPr>
          <a:xfrm>
            <a:off x="0" y="23623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edubuzz.org/blogs/stgabriels/files/2008/12/sad-face.jpg"/>
          <p:cNvPicPr/>
          <p:nvPr/>
        </p:nvPicPr>
        <p:blipFill>
          <a:blip r:embed="rId3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425" name="Oval Callout 6"/>
          <p:cNvSpPr/>
          <p:nvPr/>
        </p:nvSpPr>
        <p:spPr>
          <a:xfrm>
            <a:off x="5943600" y="228600"/>
            <a:ext cx="2743200" cy="243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¿Hablas español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Flowchart: Sequential Access Storage 7"/>
          <p:cNvSpPr/>
          <p:nvPr/>
        </p:nvSpPr>
        <p:spPr>
          <a:xfrm>
            <a:off x="3733920" y="3505320"/>
            <a:ext cx="2743200" cy="2361960"/>
          </a:xfrm>
          <a:prstGeom prst="flowChartMagneticTape">
            <a:avLst/>
          </a:prstGeom>
          <a:solidFill>
            <a:srgbClr val="51daff"/>
          </a:solidFill>
          <a:ln w="19080">
            <a:solidFill>
              <a:srgbClr val="8b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No, no hablo españo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Oval Callout 8"/>
          <p:cNvSpPr/>
          <p:nvPr/>
        </p:nvSpPr>
        <p:spPr>
          <a:xfrm>
            <a:off x="2362320" y="1828800"/>
            <a:ext cx="2666880" cy="2286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íSi!  Hablo español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8" name="Picture 2" descr="http://dusan.fora.si/works/birdy.png"/>
          <p:cNvPicPr/>
          <p:nvPr/>
        </p:nvPicPr>
        <p:blipFill>
          <a:blip r:embed="rId4"/>
          <a:stretch/>
        </p:blipFill>
        <p:spPr>
          <a:xfrm>
            <a:off x="6858000" y="2743200"/>
            <a:ext cx="11685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Japanese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japoné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Arabic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árab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Portuguese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portugué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Russian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rus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www.allaboutbipolar.com/wp-content/uploads/2009/07/japanese-flag_0-300x239.jpg"/>
          <p:cNvPicPr/>
          <p:nvPr/>
        </p:nvPicPr>
        <p:blipFill>
          <a:blip r:embed="rId1"/>
          <a:stretch/>
        </p:blipFill>
        <p:spPr>
          <a:xfrm>
            <a:off x="4648320" y="3276720"/>
            <a:ext cx="4495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3520" y="1371240"/>
            <a:ext cx="81532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French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francé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nglish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inglé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Chinese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chin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German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orbel"/>
              </a:rPr>
              <a:t>El alemá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6" name="Picture 5" descr="german flag.jpg"/>
          <p:cNvPicPr/>
          <p:nvPr/>
        </p:nvPicPr>
        <p:blipFill>
          <a:blip r:embed="rId1"/>
          <a:stretch/>
        </p:blipFill>
        <p:spPr>
          <a:xfrm>
            <a:off x="3048120" y="1990800"/>
            <a:ext cx="60958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good-bye?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¡</a:t>
            </a:r>
            <a:r>
              <a:rPr b="0" lang="es-ES_tradnl" sz="6000" spc="-1" strike="noStrike">
                <a:solidFill>
                  <a:srgbClr val="ffffff"/>
                </a:solidFill>
                <a:latin typeface="Corbel"/>
              </a:rPr>
              <a:t>Adiós</a:t>
            </a: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2" descr="http://www.ssqq.com/stories/images/goodbye%20farewell.jpg"/>
          <p:cNvPicPr/>
          <p:nvPr/>
        </p:nvPicPr>
        <p:blipFill>
          <a:blip r:embed="rId1"/>
          <a:stretch/>
        </p:blipFill>
        <p:spPr>
          <a:xfrm>
            <a:off x="5181480" y="2057400"/>
            <a:ext cx="3962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See you tomorrow?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522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¡</a:t>
            </a:r>
            <a:r>
              <a:rPr b="0" lang="es-ES_tradnl" sz="6000" spc="-1" strike="noStrike">
                <a:solidFill>
                  <a:srgbClr val="ffffff"/>
                </a:solidFill>
                <a:latin typeface="Corbel"/>
              </a:rPr>
              <a:t>Hasta mañana</a:t>
            </a: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2" name="Picture 2" descr="http://mookseandgripes.com/reviews/wp-content/uploads/2009/07/So-Long-See-You-Tomorrow.jpg"/>
          <p:cNvPicPr/>
          <p:nvPr/>
        </p:nvPicPr>
        <p:blipFill>
          <a:blip r:embed="rId1"/>
          <a:stretch/>
        </p:blipFill>
        <p:spPr>
          <a:xfrm>
            <a:off x="5987880" y="1981080"/>
            <a:ext cx="3156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See you later?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51920" y="1784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¡</a:t>
            </a:r>
            <a:r>
              <a:rPr b="0" lang="es-ES_tradnl" sz="6000" spc="-1" strike="noStrike">
                <a:solidFill>
                  <a:srgbClr val="ffffff"/>
                </a:solidFill>
                <a:latin typeface="Corbel"/>
              </a:rPr>
              <a:t>Hasta luego</a:t>
            </a: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2" descr="http://www.mchenrycountyblog.com/uploaded_images/Swimming-Cap-See-you-later-alligator-797421.jpg"/>
          <p:cNvPicPr/>
          <p:nvPr/>
        </p:nvPicPr>
        <p:blipFill>
          <a:blip r:embed="rId1"/>
          <a:stretch/>
        </p:blipFill>
        <p:spPr>
          <a:xfrm>
            <a:off x="5022720" y="3200400"/>
            <a:ext cx="4121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hello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A un amigo…?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¡HOLA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3" name="Picture 2" descr="Child Waving"/>
          <p:cNvPicPr/>
          <p:nvPr/>
        </p:nvPicPr>
        <p:blipFill>
          <a:blip r:embed="rId1"/>
          <a:stretch/>
        </p:blipFill>
        <p:spPr>
          <a:xfrm>
            <a:off x="5791320" y="3170160"/>
            <a:ext cx="33526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e polite!!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0880" y="1219320"/>
            <a:ext cx="830592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lease=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or favo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hank you=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Gracia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xcuse me=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erdó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’m sorry=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Lo sient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8" name="Picture 2" descr="http://rlv.zcache.com/say_please_and_thank_you_mousepad-p144415913945690064trak_400.jpg"/>
          <p:cNvPicPr/>
          <p:nvPr/>
        </p:nvPicPr>
        <p:blipFill>
          <a:blip r:embed="rId1"/>
          <a:stretch/>
        </p:blipFill>
        <p:spPr>
          <a:xfrm>
            <a:off x="5105520" y="8380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http://tickledbylife.com/site/wp-content/uploads/2008/10/burp.gif"/>
          <p:cNvPicPr/>
          <p:nvPr/>
        </p:nvPicPr>
        <p:blipFill>
          <a:blip r:embed="rId2"/>
          <a:stretch/>
        </p:blipFill>
        <p:spPr>
          <a:xfrm>
            <a:off x="4857840" y="2514600"/>
            <a:ext cx="4286160" cy="4343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http://www.xcomment.com/g2/img/ImSorry090207042645.gif"/>
          <p:cNvPicPr/>
          <p:nvPr/>
        </p:nvPicPr>
        <p:blipFill>
          <a:blip r:embed="rId3"/>
          <a:stretch/>
        </p:blipFill>
        <p:spPr>
          <a:xfrm>
            <a:off x="3886200" y="1365120"/>
            <a:ext cx="52578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uena suerte.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2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0160" y="2133720"/>
            <a:ext cx="5668920" cy="4724280"/>
          </a:xfrm>
          <a:prstGeom prst="rect">
            <a:avLst/>
          </a:prstGeom>
          <a:ln w="0">
            <a:noFill/>
          </a:ln>
        </p:spPr>
      </p:pic>
      <p:sp>
        <p:nvSpPr>
          <p:cNvPr id="45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4" name="Content Placeholder 5" descr="froggy.bmp"/>
          <p:cNvPicPr/>
          <p:nvPr/>
        </p:nvPicPr>
        <p:blipFill>
          <a:blip r:embed="rId3"/>
          <a:stretch/>
        </p:blipFill>
        <p:spPr>
          <a:xfrm>
            <a:off x="685800" y="1371600"/>
            <a:ext cx="5391000" cy="4492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http://www.spanish-fiestas.com/salamanca/images/salamanca-university-facade.jpg"/>
          <p:cNvPicPr/>
          <p:nvPr/>
        </p:nvPicPr>
        <p:blipFill>
          <a:blip r:embed="rId4"/>
          <a:stretch/>
        </p:blipFill>
        <p:spPr>
          <a:xfrm>
            <a:off x="0" y="0"/>
            <a:ext cx="4876920" cy="6754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ttp://farm4.static.flickr.com/3061/2461814699_bf38587f9e.jpg"/>
          <p:cNvPicPr/>
          <p:nvPr/>
        </p:nvPicPr>
        <p:blipFill>
          <a:blip r:embed="rId5"/>
          <a:stretch/>
        </p:blipFill>
        <p:spPr>
          <a:xfrm>
            <a:off x="2971800" y="0"/>
            <a:ext cx="6172200" cy="6811920"/>
          </a:xfrm>
          <a:prstGeom prst="rect">
            <a:avLst/>
          </a:prstGeom>
          <a:ln w="0">
            <a:noFill/>
          </a:ln>
        </p:spPr>
      </p:pic>
      <p:sp>
        <p:nvSpPr>
          <p:cNvPr id="457" name="Donut 8"/>
          <p:cNvSpPr/>
          <p:nvPr/>
        </p:nvSpPr>
        <p:spPr>
          <a:xfrm>
            <a:off x="2895480" y="2666880"/>
            <a:ext cx="1371600" cy="121932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78560 h 1219320"/>
              <a:gd name="textAreaBottom" fmla="*/ 1040760 h 1219320"/>
            </a:gdLst>
            <a:ahLst/>
            <a:rect l="textAreaLeft" t="textAreaTop" r="textAreaRight" b="textAreaBottom"/>
            <a:pathLst>
              <a:path w="1371600" h="1219200">
                <a:moveTo>
                  <a:pt x="0" y="609600"/>
                </a:moveTo>
                <a:lnTo>
                  <a:pt x="0" y="609600"/>
                </a:lnTo>
                <a:arcTo wR="685800" hR="609600" stAng="-10799995" swAng="5400001"/>
                <a:lnTo>
                  <a:pt x="685801" y="1"/>
                </a:lnTo>
                <a:arcTo wR="685800" hR="609600" stAng="-5399994" swAng="5399999"/>
                <a:lnTo>
                  <a:pt x="1371600" y="609602"/>
                </a:lnTo>
                <a:arcTo wR="685800" hR="609600" stAng="0" swAng="5400000"/>
                <a:lnTo>
                  <a:pt x="685800" y="1219202"/>
                </a:lnTo>
                <a:arcTo wR="685800" hR="609600" stAng="5400000" swAng="5400005"/>
                <a:close/>
                <a:moveTo>
                  <a:pt x="304800" y="609600"/>
                </a:moveTo>
                <a:lnTo>
                  <a:pt x="304800" y="609600"/>
                </a:lnTo>
                <a:arcTo wR="381000" hR="304800" stAng="10800000" swAng="-5400000"/>
                <a:lnTo>
                  <a:pt x="685800" y="914400"/>
                </a:lnTo>
                <a:arcTo wR="381000" hR="304800" stAng="5400000" swAng="-5400000"/>
                <a:lnTo>
                  <a:pt x="1066800" y="609600"/>
                </a:lnTo>
                <a:arcTo wR="381000" hR="304800" stAng="0" swAng="-5400000"/>
                <a:lnTo>
                  <a:pt x="685800" y="304800"/>
                </a:lnTo>
                <a:arcTo wR="381000" hR="304800" stAng="-5400000" swAng="-5400000"/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8" name="Picture 10" descr="http://www.lonelyplanet.com/maps/europe/spain/map_of_spain.jpg"/>
          <p:cNvPicPr/>
          <p:nvPr/>
        </p:nvPicPr>
        <p:blipFill>
          <a:blip r:embed="rId6"/>
          <a:stretch/>
        </p:blipFill>
        <p:spPr>
          <a:xfrm>
            <a:off x="0" y="0"/>
            <a:ext cx="8553600" cy="6424560"/>
          </a:xfrm>
          <a:prstGeom prst="rect">
            <a:avLst/>
          </a:prstGeom>
          <a:ln w="0">
            <a:noFill/>
          </a:ln>
        </p:spPr>
      </p:pic>
      <p:sp>
        <p:nvSpPr>
          <p:cNvPr id="459" name="4-Point Star 10"/>
          <p:cNvSpPr/>
          <p:nvPr/>
        </p:nvSpPr>
        <p:spPr>
          <a:xfrm>
            <a:off x="3276720" y="2590920"/>
            <a:ext cx="1218960" cy="1066680"/>
          </a:xfrm>
          <a:custGeom>
            <a:avLst/>
            <a:gdLst>
              <a:gd name="textAreaLeft" fmla="*/ 502200 w 1218960"/>
              <a:gd name="textAreaRight" fmla="*/ 716760 w 1218960"/>
              <a:gd name="textAreaTop" fmla="*/ 439560 h 1066680"/>
              <a:gd name="textAreaBottom" fmla="*/ 627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4-Point Star 11"/>
          <p:cNvSpPr/>
          <p:nvPr/>
        </p:nvSpPr>
        <p:spPr>
          <a:xfrm>
            <a:off x="2057400" y="2057400"/>
            <a:ext cx="1219320" cy="1066680"/>
          </a:xfrm>
          <a:custGeom>
            <a:avLst/>
            <a:gdLst>
              <a:gd name="textAreaLeft" fmla="*/ 502200 w 1219320"/>
              <a:gd name="textAreaRight" fmla="*/ 717120 w 1219320"/>
              <a:gd name="textAreaTop" fmla="*/ 439560 h 1066680"/>
              <a:gd name="textAreaBottom" fmla="*/ 627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¡</a:t>
            </a: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Hasta la vista,</a:t>
            </a:r>
            <a:br>
              <a:rPr sz="4000"/>
            </a:b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baby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" descr="http://www.cyber-cinema.com/gallery/Terminator2.jpg"/>
          <p:cNvPicPr/>
          <p:nvPr/>
        </p:nvPicPr>
        <p:blipFill>
          <a:blip r:embed="rId2"/>
          <a:stretch/>
        </p:blipFill>
        <p:spPr>
          <a:xfrm>
            <a:off x="4923000" y="0"/>
            <a:ext cx="4221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hello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A las 8:00 a.m.?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orbel"/>
              </a:rPr>
              <a:t>¡ Buenos días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Picture 2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971800"/>
            <a:ext cx="2560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hello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A la 1:00 p.m.?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orbel"/>
              </a:rPr>
              <a:t>¡ Buenas tardes!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http://image20.webshots.com/20/1/0/12/197510012AifHTc_fs.jpg"/>
          <p:cNvPicPr/>
          <p:nvPr/>
        </p:nvPicPr>
        <p:blipFill>
          <a:blip r:embed="rId1"/>
          <a:stretch/>
        </p:blipFill>
        <p:spPr>
          <a:xfrm>
            <a:off x="5315040" y="1752480"/>
            <a:ext cx="3828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1eeff"/>
                </a:solidFill>
                <a:latin typeface="Consolas"/>
              </a:rPr>
              <a:t>¿Cómo se dice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… 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	</a:t>
            </a:r>
            <a:r>
              <a:rPr b="0" lang="en-US" sz="6000" spc="-1" strike="noStrike">
                <a:solidFill>
                  <a:srgbClr val="c1eeff"/>
                </a:solidFill>
                <a:latin typeface="Consolas"/>
              </a:rPr>
              <a:t>hello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A las 9:00 p.m.?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orbel"/>
              </a:rPr>
              <a:t>¡ Buenas noches!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Picture 2" descr="http://apod.nasa.gov/apod/image/0709/saguaroMoon_seip.jpg"/>
          <p:cNvPicPr/>
          <p:nvPr/>
        </p:nvPicPr>
        <p:blipFill>
          <a:blip r:embed="rId1"/>
          <a:stretch/>
        </p:blipFill>
        <p:spPr>
          <a:xfrm>
            <a:off x="5257800" y="1905120"/>
            <a:ext cx="37479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your name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orbel"/>
              </a:rPr>
              <a:t>¿Cómo te llamas?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2" descr="http://www.namebadgesplus.org/images/name_tag_1.jpg"/>
          <p:cNvPicPr/>
          <p:nvPr/>
        </p:nvPicPr>
        <p:blipFill>
          <a:blip r:embed="rId1"/>
          <a:stretch/>
        </p:blipFill>
        <p:spPr>
          <a:xfrm>
            <a:off x="5494320" y="1371600"/>
            <a:ext cx="3649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www.namebadgesplus.org/images/name_tag_1.jpg"/>
          <p:cNvPicPr/>
          <p:nvPr/>
        </p:nvPicPr>
        <p:blipFill>
          <a:blip r:embed="rId2"/>
          <a:stretch/>
        </p:blipFill>
        <p:spPr>
          <a:xfrm>
            <a:off x="0" y="557280"/>
            <a:ext cx="4191120" cy="63007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"/>
          <p:cNvSpPr/>
          <p:nvPr/>
        </p:nvSpPr>
        <p:spPr>
          <a:xfrm>
            <a:off x="1460160" y="59436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Marí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011400" y="3809880"/>
            <a:ext cx="1119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Nacho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Oval Callout 6"/>
          <p:cNvSpPr/>
          <p:nvPr/>
        </p:nvSpPr>
        <p:spPr>
          <a:xfrm>
            <a:off x="1066680" y="304920"/>
            <a:ext cx="4343400" cy="27432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rbel"/>
              </a:rPr>
              <a:t>Me llamo María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Oval Callout 7"/>
          <p:cNvSpPr/>
          <p:nvPr/>
        </p:nvSpPr>
        <p:spPr>
          <a:xfrm>
            <a:off x="3200400" y="0"/>
            <a:ext cx="4343400" cy="27432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orbel"/>
              </a:rPr>
              <a:t>Me llamo Nacho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“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os besos”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8240" y="1143000"/>
            <a:ext cx="84582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Mucho gusto.”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Encantado.”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Encantada.”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internaldrive.com/wp-content/uploads/2007/07/windowslivewriterspaingroup2arrives-5fcddosbesos1.jpg"/>
          <p:cNvPicPr/>
          <p:nvPr/>
        </p:nvPicPr>
        <p:blipFill>
          <a:blip r:embed="rId1"/>
          <a:stretch/>
        </p:blipFill>
        <p:spPr>
          <a:xfrm>
            <a:off x="3733920" y="3254400"/>
            <a:ext cx="5410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w are you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Content Placeholder 3" descr="Dr__McGill.jpg"/>
          <p:cNvPicPr/>
          <p:nvPr/>
        </p:nvPicPr>
        <p:blipFill>
          <a:blip r:embed="rId1"/>
          <a:stretch/>
        </p:blipFill>
        <p:spPr>
          <a:xfrm>
            <a:off x="5086440" y="1447920"/>
            <a:ext cx="4057560" cy="54100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04920" y="1219320"/>
            <a:ext cx="525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¿Cómo está usted?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9:34:42Z</dcterms:created>
  <dc:creator>Lauren Mooney</dc:creator>
  <dc:description/>
  <dc:language>en-US</dc:language>
  <cp:lastModifiedBy>Lauren Mooney</cp:lastModifiedBy>
  <dcterms:modified xsi:type="dcterms:W3CDTF">2009-09-18T15:18:11Z</dcterms:modified>
  <cp:revision>1</cp:revision>
  <dc:subject/>
  <dc:title>Los saludos y las expresiones de cortesía</dc:title>
</cp:coreProperties>
</file>